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54D8-D444-4AF3-B004-2F459C9B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438D-06D0-4F36-8C4F-7F14A05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D66-E2AF-4603-9E5F-1A18F0DE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6F55-FCEF-4FC8-8059-0DAAD01C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D680-39B5-4C55-8EC4-480ABDC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40E8-3620-459A-8A42-DC4B083A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628E-326B-4E2F-B45F-DDA310EE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C765-27BA-42F9-9655-8F30ECDC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0428-D717-48ED-966B-9447A3A7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88D-C9FB-4739-81BB-8B53A997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121B-7135-4C4E-B7BF-49EF39BC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450-3BAC-4DC4-8506-285EC80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2E3D-18A0-4629-994B-7B6C363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4CE3-8DA0-428E-805F-F1E4FA74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23D3-0F46-4157-BC21-20B793FE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C3E1-DC0D-4613-8478-31AC0C2F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FE0-62DA-41F4-9AB7-B97CCEFEA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D76A-A7DA-4C24-9C80-D0001CD2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B0FD-2033-4172-92DA-14600B42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FDA-F1D6-4512-A784-C74ED601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CD42-7386-4136-8A92-68ECBFB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95C-EF9E-429E-BEC4-319EF8C0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590-537B-4C6C-A31D-9DA35E54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33D-C1CF-4B4C-B9C8-31FBA633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78DC-45AD-4FA5-9FFC-FAA99D81531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1C5B-CAC9-4A0D-9FE9-36040379CC5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HHS 4M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dividuals and Families in a Diverse Society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Unit Three – Cou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apter Seven – Intimate Relationships &amp;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tural Selection Continued: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e Evolution of Desire – by David Buss (evolutionary psychologist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otential partners is still patterned to enable them to select the person with whom they can raise the most successful children”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In all societies women wish to “marry up”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Women are twice as likely to men to marry for financial resource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Women are attracted to healthy, intelligent, well-educated, hard-working and ambitiou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Men are attracted to physically appealing, young &amp; healthy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summary, according to anthropology &amp; evolutionary psychology, women are attracted to good providers &amp; men are attracted to women who appear to be fertil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Social Homogamy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- a theory that describes how individuals are attracted to others from a similar social backgr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Fits into a Structural Functionalists’ perspecti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s are attracted to those who have similar backgrounds, such as: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g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thnic background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ligi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cio-economic statu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olitical view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The Ideal Mate Theory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– attraction based on an individual’s unconscious image of an ideal mat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upports “love at first sight” and social homogam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erceptions of an ideal mate are formed from pleasant experiences with other individuals in childhood, usually a person’s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ymbolic Interaction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Filter Theory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Murstein – 197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ggests that patrners are first selected based on obvious stimulus characteristics, such as attractiveness, and are then passed through filters based on similar values and compatibili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e selection moves through stages (stimulus-values-roles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e text p.20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Romantic Lov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Both men &amp; women desire love &amp; commitmen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ccording to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Sternberg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, romantic love has three “faces”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)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ssion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– a strong feeling of sexual desire for another, develops the fastes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2)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imacy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– intense friendship develops more slowly, as the individual shares himself or herself with another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)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mmit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– maintaining the relationship while it grow &amp; offering reward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The love triangle includes all three faces – each representing a side, but some sides grow at different rates &amp; the nature of romantic love changes with tim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volutionary perspective of Romantic Love is: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921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- Love is advantageous: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passion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draws individuals together with a desire to reproduce, but the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ntimacy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&amp;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mmitment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that follow allow them to maintain their relationship over the long term, to support each other &amp; to culture &amp; raise childre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ourtship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hat sorts of activities do couples go through that could be called a courtship ritual?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dividuals are allowed to win each others affec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urtship rituals in all societ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en display their resources to prove they have the potential to be good provider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omen display the qualities that make them desirable &amp; nurturin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Cultural Diversity of Courtship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ile the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dat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is fairly casual in most European cultures, in many traditional societies, courtship is a highly structured activity, with very specific formal rul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 some societies, the parents or community propose potential partners, and then allow limited dating to determine whether the parties are suite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he Evolution of Courtship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more closed societies, courtship is virtually eliminated altogether by the practice of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rranged marriage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where partners are chosen for young people, typically by their parent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orbidding experimental and serial courtship and sanctioning only arranged matches is partly a means of guarding the chastity of young people and partly a matter of furthering family interests, which in such cultures may be considered more important than individual romantic preference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Over recent decades though, the concept of arranged marriage has changed or simply been mixed with other forms of dating, including Eastern and Indian ones; potential couples have the opportunity to meet and date each other before one decides on whether to continue the relationship or not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odern Dating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 earlier centuries,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hen marriage was an expectatio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rather than an option, young adults were expected to court with the intention of finding a marriage partner, rather than for social reaso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wever, by the Jazz Age of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20'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dating for fun was becoming an expectation, and by th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1930's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, it was assumed that any popular young person would have lots of date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is form of dating, though, was usually more chaste than is seen today, since pre-marital sex was not considered the norm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fter the sexual revolution of the 1960's and 1970's, this "old-fashioned" form of dating waned in popularit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ples became more likely to "hook up" or "hang out" with large groups than to go on an old-fashioned date, and frequently went from "hanging out" to an exclusive relationship without engaging in what their parents or grandparents might have called da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apter Six – Marriage, Intimate Relationships &amp; Socie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hapter Seven – Intimate Relationships &amp; Marriag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hapter Eight – Relationships Issues &amp; Tre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ating &amp; Marital Succes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ree-choice marriages suggest that dating experiences leads to greater marital succes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 best indicator of marital success is – being in love when you marry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gotiating Satisfying Roles in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Getting married can appear to be the happiest &amp; easiest transition in life because it is ritualized, highly organized and supported by family &amp; friend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owever, the relationship roles within marriage are often difficult to se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rikson explained that individuals need to resolve the dilemma of </a:t>
            </a: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intimacy verses isolation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o develop the enduring strength  of love within the relationship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 challenge is to know how to grow independently and as a partner within a coupl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Role Expectations in Marriag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ntemporary marriages are based on companionship, not parenting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refore, marriages are based upon the principle of equa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is principle of equality is not an event, but a proc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ystems Theory – couples must discuss the structures, or the hidden rules of their new marital system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gotiation is a process of conferring with others in order to reach an agreemen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egotiation is not just the joining of two individuals, but also a joining &amp; overlapping of two family systems to create a third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ine “Psychological Tasks”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eded for a Good 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emotionally from the family you grew up in; not to the point of estrangement, but enough so that your identity is separate from that of your parents and sibling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ild togetherness based on a shared intimacy and identity, while at the same time set boundaries to protect each partner's autonomy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stablish a rich and pleasurable sexual relationship and protect it from the intrusions of the workplace and family obligatio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4.    For couples with children, embrace the daunting roles of parenthood and absorb the impact of a baby's entrance into the marriage. Learn to continue the work of protecting the privacy of you and your spouse as a coupl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ine “Psychological Tasks”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eeded for a Good 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.    Confront and master the inevitable crises of lif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6.    Maintain the strength of the marital bond in the face of adversity. The marriage should be a safe haven in which partners are able to express their differences, anger and conflic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7.    Use humor and laughter to keep things in perspective and to avoid boredom and isolation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.    Nurture and comfort each other, satisfying each partnerís needs for dependency and offering continuing encouragement and support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.   Keep alive the early romantic, idealized images of falling in love, while facing the sober realities of the changes wrought by time.5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Stages in a Marriage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hat do you think are the stages of marriage?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hree Predictable stages of a relationship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On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Relationships are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romantic,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warm &amp; respectful, focusing on exploration, sexual attraction and the idealization of the partner. Individuals also build self-esteem as they try to develop the relationship that they want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Two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nflict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rises as individuals become more demanding to meet their own needs. This results in instability in the relationship &amp; requires both partners to change their behaviour. Individuals feel let down because the relationship is less rewarding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tage Thre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– Couples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compromise &amp; negotiat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 relationship that meets their needs as well as possible. The relationship becomes more realistic, mature, &amp; stabl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Defining Success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everal characteristics in common for a successfu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arriage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milar valu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imilar leisure time activit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ooling their incom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haring in power &amp; decision making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ving friends in commo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ving an active social life togeth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view Research Study: Why Marriages Succeed or Fail (pages 210 - 211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ome interesting findin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chieving a Satisfying Relationship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amiliarity breeds intima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Knowing who you are, helps you understand your partner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onest communication nurtures trust &amp; shows respect for the other by allowing each partner to maintain his/her differenc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 able to agree on solutions to problem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e successful at negotiation – requires individual to respect &amp; honour spouses opin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uccessful couple turn to each other, not away from each other when a problems ari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Claude Guldner’s Six “R’s” of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Marriag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1. Root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2. Rhythm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3. Rul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4. Rol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5.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6. Ritu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See text p. 21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roblems, Conflict, and Power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What do you thing is the most common problem in marriage?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ommunication was most frequently mentio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Jealousy was thought to be the largest issu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Conflict Theory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suggest: Nature of intimate relationships &amp; changing roles of men &amp; women in a diverse-post industrial society such as Canada's results in 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3 related dilemmas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for couple relationships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1. Individual verses collective interes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2. Women’s rights verses male entitlement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3. “mine” verse “yours”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Many of these issues revolve around two things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Division of labour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Expressive quality of the relationshi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orming Intimate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Attraction, Mate Selection, &amp; Romanc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Theories of Mate Attraction &amp; Mate Selection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Romantic Lov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Courtship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Dating &amp; Marital Succes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Negotiating Satisfying Roles in Relationship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Problems, Conflict &amp; Powe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lloway, Maureen, Holloway,G., Witte, J. (2003)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Individuals and Families in a Diverse Society.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cGraw-Hill Ryerson., Toront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ttp://sitemaker.umich.edu/psy457_lamyiu/sternberg_s_theory_of_lov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op 10 Characteristics That People Want in a Partner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. Hones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2. Kindnes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3. Respect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4. Compatibi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5. Humour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6. Dependabi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7. Lov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8. Valu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9. Religious Commonali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10.Communicatio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ource: Bibby, Reginal. (2004) </a:t>
            </a:r>
            <a:r>
              <a:rPr b="0" i="1" lang="en-US" sz="1600" spc="-1" strike="noStrike">
                <a:solidFill>
                  <a:srgbClr val="eaeaea"/>
                </a:solidFill>
                <a:latin typeface="Arial"/>
              </a:rPr>
              <a:t>A Canadian Hopes &amp; Dream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.  Vanier Institute of the Family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op 8 Reasons People Marry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1. Feeling that marriage signifies commitment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2. Moral valu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3. Belief that children should have married parent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4. It is the natural thing to do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5. Financial securit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6. Religious belief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7. Pressure from famil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8. Pressure from friend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ource: Bibby, Reginal. (2004)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A Canadian Hopes &amp; Dreams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  Vanier Institute of the Family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Forming Intimate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Many Canadians still worry about whether they will be able to form a satisfying relationship that will last a lifetime without having to give up who they are &amp; who they want to b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Some sociologist estimate that only about 10% of contemporary marriages are truly monogamous relationships, in which one man marries one women for a lifelong relationshi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orming Intimate Relationships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at is the nature of sexual attraction and mate selection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What is the nature of romantic love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ow do couples negotiate satisfying roles in their relationships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How do couples manage conflict in their marriag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Attraction, Mate Selection &amp; Romanc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What is romance?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 love affair. Ardent emotional attachment or involvement between people; love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They kept the romance alive in their marriage for 35 year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 strong, sometimes short-lived attachment, fascination, or enthusiasm for something: </a:t>
            </a: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a childhood romance with the sea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Not clear as to whether romantic love is a fairly recent social development or whether love has a basis in human biolog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Arial"/>
              </a:rPr>
              <a:t>87% of all culture the relationships between men &amp; women exhibit romantic love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eories of Attraction &amp; Mate Selection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atural Selection Theor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Wome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referred to mate with men wh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ould be good father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ould stay around to be good providers for themselves &amp; their bab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Men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preferred to mate with women who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ld bear healthy babi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uld feed their childre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had the intelligence &amp; temperament to raise them well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Two processes were at work for men &amp; women to exchange their valuable reproductive resources: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Individual preferences for an attractive mat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ompetition with others for ma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4:32:09Z</dcterms:created>
  <dc:creator>OCDSB User</dc:creator>
  <dc:description/>
  <dc:language>en-US</dc:language>
  <cp:lastModifiedBy>OCDSB User</cp:lastModifiedBy>
  <dcterms:modified xsi:type="dcterms:W3CDTF">2011-04-08T16:15:58Z</dcterms:modified>
  <cp:revision>8</cp:revision>
  <dc:subject/>
  <dc:title>  HHS 4M  Individuals and Families in a Diverse Society    </dc:title>
</cp:coreProperties>
</file>